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79CF-90FE-4371-953D-B64085E3A10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1996-1F2C-4436-B293-C090DF82C10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2000 South-Wester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1"/>
          <p:cNvGrpSpPr/>
          <p:nvPr/>
        </p:nvGrpSpPr>
        <p:grpSpPr>
          <a:xfrm>
            <a:off x="457200" y="1295280"/>
            <a:ext cx="8458200" cy="3200400"/>
            <a:chOff x="457200" y="1295280"/>
            <a:chExt cx="8458200" cy="3200400"/>
          </a:xfrm>
        </p:grpSpPr>
        <p:grpSp>
          <p:nvGrpSpPr>
            <p:cNvPr id="48" name="Group 30"/>
            <p:cNvGrpSpPr/>
            <p:nvPr/>
          </p:nvGrpSpPr>
          <p:grpSpPr>
            <a:xfrm>
              <a:off x="457200" y="1295280"/>
              <a:ext cx="8458200" cy="3200400"/>
              <a:chOff x="457200" y="1295280"/>
              <a:chExt cx="8458200" cy="3200400"/>
            </a:xfrm>
          </p:grpSpPr>
          <p:sp>
            <p:nvSpPr>
              <p:cNvPr id="49" name="Rectangle 29"/>
              <p:cNvSpPr/>
              <p:nvPr/>
            </p:nvSpPr>
            <p:spPr>
              <a:xfrm>
                <a:off x="457200" y="1371600"/>
                <a:ext cx="8458200" cy="3124080"/>
              </a:xfrm>
              <a:prstGeom prst="rect">
                <a:avLst/>
              </a:prstGeom>
              <a:gradFill rotWithShape="0">
                <a:gsLst>
                  <a:gs pos="0">
                    <a:srgbClr val="99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Group 18"/>
              <p:cNvGrpSpPr/>
              <p:nvPr/>
            </p:nvGrpSpPr>
            <p:grpSpPr>
              <a:xfrm>
                <a:off x="457200" y="1295280"/>
                <a:ext cx="858600" cy="858600"/>
                <a:chOff x="457200" y="1295280"/>
                <a:chExt cx="858600" cy="858600"/>
              </a:xfrm>
            </p:grpSpPr>
            <p:sp>
              <p:nvSpPr>
                <p:cNvPr id="51" name="Text Box 19"/>
                <p:cNvSpPr/>
                <p:nvPr/>
              </p:nvSpPr>
              <p:spPr>
                <a:xfrm>
                  <a:off x="457200" y="129528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Text Box 20"/>
                <p:cNvSpPr/>
                <p:nvPr/>
              </p:nvSpPr>
              <p:spPr>
                <a:xfrm>
                  <a:off x="914400" y="129528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Text Box 21"/>
                <p:cNvSpPr/>
                <p:nvPr/>
              </p:nvSpPr>
              <p:spPr>
                <a:xfrm>
                  <a:off x="457200" y="175536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Text Box 22"/>
                <p:cNvSpPr/>
                <p:nvPr/>
              </p:nvSpPr>
              <p:spPr>
                <a:xfrm>
                  <a:off x="914400" y="175392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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" name="Group 24"/>
            <p:cNvGrpSpPr/>
            <p:nvPr/>
          </p:nvGrpSpPr>
          <p:grpSpPr>
            <a:xfrm>
              <a:off x="762120" y="1905120"/>
              <a:ext cx="8076960" cy="1712160"/>
              <a:chOff x="762120" y="1905120"/>
              <a:chExt cx="8076960" cy="1712160"/>
            </a:xfrm>
          </p:grpSpPr>
          <p:sp>
            <p:nvSpPr>
              <p:cNvPr id="56" name="Text Box 6"/>
              <p:cNvSpPr/>
              <p:nvPr/>
            </p:nvSpPr>
            <p:spPr>
              <a:xfrm>
                <a:off x="1371600" y="1905120"/>
                <a:ext cx="7467480" cy="171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1779480"/>
                    <a:tab algn="dec" pos="3198960"/>
                    <a:tab algn="l" pos="4799160"/>
                    <a:tab algn="dec" pos="63975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lum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bit Column Total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redit Column Totals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1779480"/>
                    <a:tab algn="dec" pos="3198960"/>
                    <a:tab algn="l" pos="4799160"/>
                    <a:tab algn="dec" pos="63975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  7,960.0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12,840.00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1779480"/>
                    <a:tab algn="dec" pos="3198960"/>
                    <a:tab algn="l" pos="4799160"/>
                    <a:tab algn="dec" pos="63975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ale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2,439.00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1779480"/>
                    <a:tab algn="dec" pos="3198960"/>
                    <a:tab algn="l" pos="4799160"/>
                    <a:tab algn="dec" pos="63975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12,319.0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5,000.00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5"/>
              <p:cNvSpPr/>
              <p:nvPr/>
            </p:nvSpPr>
            <p:spPr>
              <a:xfrm>
                <a:off x="762120" y="2559240"/>
                <a:ext cx="533160" cy="53316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 Box 23"/>
          <p:cNvSpPr/>
          <p:nvPr/>
        </p:nvSpPr>
        <p:spPr>
          <a:xfrm>
            <a:off x="1371600" y="3581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79480"/>
                <a:tab algn="dec" pos="3198960"/>
                <a:tab algn="l" pos="4799160"/>
                <a:tab algn="dec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,279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,279.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3276720" y="3649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6248520" y="3649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7"/>
          <p:cNvSpPr/>
          <p:nvPr/>
        </p:nvSpPr>
        <p:spPr>
          <a:xfrm>
            <a:off x="5638680" y="18288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NG A JOURNAL P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4, page 8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7200" y="43750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each amount colum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6"/>
          <p:cNvGrpSpPr/>
          <p:nvPr/>
        </p:nvGrpSpPr>
        <p:grpSpPr>
          <a:xfrm>
            <a:off x="3200400" y="3613320"/>
            <a:ext cx="4572000" cy="533160"/>
            <a:chOff x="3200400" y="3613320"/>
            <a:chExt cx="4572000" cy="533160"/>
          </a:xfrm>
        </p:grpSpPr>
        <p:grpSp>
          <p:nvGrpSpPr>
            <p:cNvPr id="66" name="Group 10"/>
            <p:cNvGrpSpPr/>
            <p:nvPr/>
          </p:nvGrpSpPr>
          <p:grpSpPr>
            <a:xfrm>
              <a:off x="3200400" y="4070520"/>
              <a:ext cx="1371600" cy="58680"/>
              <a:chOff x="3200400" y="4070520"/>
              <a:chExt cx="1371600" cy="58680"/>
            </a:xfrm>
          </p:grpSpPr>
          <p:sp>
            <p:nvSpPr>
              <p:cNvPr id="67" name="Line 7"/>
              <p:cNvSpPr/>
              <p:nvPr/>
            </p:nvSpPr>
            <p:spPr>
              <a:xfrm>
                <a:off x="3200400" y="4070520"/>
                <a:ext cx="13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8"/>
              <p:cNvSpPr/>
              <p:nvPr/>
            </p:nvSpPr>
            <p:spPr>
              <a:xfrm>
                <a:off x="3200400" y="4129200"/>
                <a:ext cx="13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1"/>
            <p:cNvGrpSpPr/>
            <p:nvPr/>
          </p:nvGrpSpPr>
          <p:grpSpPr>
            <a:xfrm>
              <a:off x="6400800" y="4070520"/>
              <a:ext cx="1371600" cy="58680"/>
              <a:chOff x="6400800" y="4070520"/>
              <a:chExt cx="1371600" cy="58680"/>
            </a:xfrm>
          </p:grpSpPr>
          <p:sp>
            <p:nvSpPr>
              <p:cNvPr id="70" name="Line 12"/>
              <p:cNvSpPr/>
              <p:nvPr/>
            </p:nvSpPr>
            <p:spPr>
              <a:xfrm>
                <a:off x="6400800" y="4070520"/>
                <a:ext cx="13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3"/>
              <p:cNvSpPr/>
              <p:nvPr/>
            </p:nvSpPr>
            <p:spPr>
              <a:xfrm>
                <a:off x="6400800" y="4129200"/>
                <a:ext cx="13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Oval 16"/>
            <p:cNvSpPr/>
            <p:nvPr/>
          </p:nvSpPr>
          <p:spPr>
            <a:xfrm>
              <a:off x="5216400" y="361332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27"/>
          <p:cNvSpPr/>
          <p:nvPr/>
        </p:nvSpPr>
        <p:spPr>
          <a:xfrm>
            <a:off x="457200" y="474192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debit column totals, and then add the credit column tota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457200" y="541008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fy that the total debits and total credits are equ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LING A JOURNAL P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D:\C21 PowerPoint\Multi_Journal\art for blue\Ch04\Ch04-04a.jpg"/>
          <p:cNvPicPr/>
          <p:nvPr/>
        </p:nvPicPr>
        <p:blipFill>
          <a:blip r:embed="rId1"/>
          <a:srcRect l="0" t="0" r="0" b="27276"/>
          <a:stretch/>
        </p:blipFill>
        <p:spPr>
          <a:xfrm>
            <a:off x="457200" y="914400"/>
            <a:ext cx="8229600" cy="2514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4, page 8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69200" y="4343400"/>
            <a:ext cx="31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Rule a single li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8458200" y="2895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3657600" y="2666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8"/>
          <p:cNvSpPr/>
          <p:nvPr/>
        </p:nvSpPr>
        <p:spPr>
          <a:xfrm>
            <a:off x="1600200" y="32004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457200" y="31240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6"/>
          <p:cNvGrpSpPr/>
          <p:nvPr/>
        </p:nvGrpSpPr>
        <p:grpSpPr>
          <a:xfrm>
            <a:off x="4987440" y="3124080"/>
            <a:ext cx="2824560" cy="1524240"/>
            <a:chOff x="4987440" y="3124080"/>
            <a:chExt cx="2824560" cy="1524240"/>
          </a:xfrm>
        </p:grpSpPr>
        <p:sp>
          <p:nvSpPr>
            <p:cNvPr id="84" name="Line 11"/>
            <p:cNvSpPr/>
            <p:nvPr/>
          </p:nvSpPr>
          <p:spPr>
            <a:xfrm flipV="1">
              <a:off x="6400800" y="3124080"/>
              <a:ext cx="0" cy="1371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 flipH="1" flipV="1">
              <a:off x="5799240" y="3150720"/>
              <a:ext cx="570960" cy="141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 flipV="1">
              <a:off x="6429600" y="3150720"/>
              <a:ext cx="570960" cy="141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 flipH="1" flipV="1">
              <a:off x="4987440" y="3234960"/>
              <a:ext cx="1293120" cy="1293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 flipV="1">
              <a:off x="6461280" y="3234960"/>
              <a:ext cx="1350720" cy="134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"/>
            <p:cNvSpPr/>
            <p:nvPr/>
          </p:nvSpPr>
          <p:spPr>
            <a:xfrm>
              <a:off x="6137280" y="41148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7"/>
          <p:cNvSpPr/>
          <p:nvPr/>
        </p:nvSpPr>
        <p:spPr>
          <a:xfrm>
            <a:off x="167040" y="5435640"/>
            <a:ext cx="39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each column tot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170280" y="5803920"/>
            <a:ext cx="32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double lin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67040" y="5079960"/>
            <a:ext cx="37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rried 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167760" y="4711680"/>
            <a:ext cx="27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473760" y="388620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eps to Rule a Journal P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9"/>
          <p:cNvSpPr/>
          <p:nvPr/>
        </p:nvSpPr>
        <p:spPr>
          <a:xfrm>
            <a:off x="457200" y="447048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ought Forwar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place a check mark in the Post. Ref. colum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4"/>
          <p:cNvGrpSpPr/>
          <p:nvPr/>
        </p:nvGrpSpPr>
        <p:grpSpPr>
          <a:xfrm>
            <a:off x="457200" y="1295280"/>
            <a:ext cx="8229600" cy="1351080"/>
            <a:chOff x="457200" y="1295280"/>
            <a:chExt cx="8229600" cy="1351080"/>
          </a:xfrm>
        </p:grpSpPr>
        <p:pic>
          <p:nvPicPr>
            <p:cNvPr id="97" name="Picture 3" descr="D:\C21 PowerPoint\Multi_Journal\art for blue\Ch04\Ch04-04b.jpg"/>
            <p:cNvPicPr/>
            <p:nvPr/>
          </p:nvPicPr>
          <p:blipFill>
            <a:blip r:embed="rId1"/>
            <a:stretch/>
          </p:blipFill>
          <p:spPr>
            <a:xfrm>
              <a:off x="457200" y="1295280"/>
              <a:ext cx="822960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3"/>
            <p:cNvSpPr/>
            <p:nvPr/>
          </p:nvSpPr>
          <p:spPr>
            <a:xfrm>
              <a:off x="3422520" y="205092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7280" indent="-287280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A NEW JOURNAL P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4, page 8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67400" y="3733920"/>
            <a:ext cx="38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page numb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8077320" y="10666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685800" y="23623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0"/>
          <p:cNvGrpSpPr/>
          <p:nvPr/>
        </p:nvGrpSpPr>
        <p:grpSpPr>
          <a:xfrm>
            <a:off x="4935240" y="2302920"/>
            <a:ext cx="2823840" cy="1524240"/>
            <a:chOff x="4935240" y="2302920"/>
            <a:chExt cx="2823840" cy="1524240"/>
          </a:xfrm>
        </p:grpSpPr>
        <p:sp>
          <p:nvSpPr>
            <p:cNvPr id="105" name="Line 11"/>
            <p:cNvSpPr/>
            <p:nvPr/>
          </p:nvSpPr>
          <p:spPr>
            <a:xfrm flipV="1">
              <a:off x="6348240" y="2302920"/>
              <a:ext cx="0" cy="13712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2"/>
            <p:cNvSpPr/>
            <p:nvPr/>
          </p:nvSpPr>
          <p:spPr>
            <a:xfrm flipH="1" flipV="1">
              <a:off x="5746680" y="2330280"/>
              <a:ext cx="570960" cy="141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3"/>
            <p:cNvSpPr/>
            <p:nvPr/>
          </p:nvSpPr>
          <p:spPr>
            <a:xfrm flipV="1">
              <a:off x="6377040" y="2330280"/>
              <a:ext cx="570960" cy="141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4"/>
            <p:cNvSpPr/>
            <p:nvPr/>
          </p:nvSpPr>
          <p:spPr>
            <a:xfrm flipH="1" flipV="1">
              <a:off x="4935240" y="2413800"/>
              <a:ext cx="1292760" cy="1292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 flipV="1">
              <a:off x="6408720" y="2414160"/>
              <a:ext cx="1350360" cy="134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6"/>
            <p:cNvSpPr/>
            <p:nvPr/>
          </p:nvSpPr>
          <p:spPr>
            <a:xfrm>
              <a:off x="6084720" y="3294000"/>
              <a:ext cx="53316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7"/>
          <p:cNvSpPr/>
          <p:nvPr/>
        </p:nvSpPr>
        <p:spPr>
          <a:xfrm>
            <a:off x="457200" y="514044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the column totals brought forward from the previous p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167760" y="4102200"/>
            <a:ext cx="27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32"/>
          <p:cNvGrpSpPr/>
          <p:nvPr/>
        </p:nvGrpSpPr>
        <p:grpSpPr>
          <a:xfrm>
            <a:off x="2248560" y="2324520"/>
            <a:ext cx="1475280" cy="806040"/>
            <a:chOff x="2248560" y="2324520"/>
            <a:chExt cx="1475280" cy="806040"/>
          </a:xfrm>
        </p:grpSpPr>
        <p:sp>
          <p:nvSpPr>
            <p:cNvPr id="114" name="Line 29"/>
            <p:cNvSpPr/>
            <p:nvPr/>
          </p:nvSpPr>
          <p:spPr>
            <a:xfrm flipH="1" flipV="1">
              <a:off x="2248560" y="2324520"/>
              <a:ext cx="754200" cy="754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0"/>
            <p:cNvSpPr/>
            <p:nvPr/>
          </p:nvSpPr>
          <p:spPr>
            <a:xfrm flipV="1">
              <a:off x="2962800" y="2337120"/>
              <a:ext cx="761040" cy="697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8"/>
            <p:cNvSpPr/>
            <p:nvPr/>
          </p:nvSpPr>
          <p:spPr>
            <a:xfrm>
              <a:off x="2725560" y="259704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23"/>
          <p:cNvSpPr/>
          <p:nvPr/>
        </p:nvSpPr>
        <p:spPr>
          <a:xfrm>
            <a:off x="477360" y="3352680"/>
            <a:ext cx="469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eps to Starting a New Journal P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5"/>
          <p:cNvGrpSpPr/>
          <p:nvPr/>
        </p:nvGrpSpPr>
        <p:grpSpPr>
          <a:xfrm>
            <a:off x="838080" y="2165400"/>
            <a:ext cx="858600" cy="858600"/>
            <a:chOff x="838080" y="2165400"/>
            <a:chExt cx="858600" cy="858600"/>
          </a:xfrm>
        </p:grpSpPr>
        <p:sp>
          <p:nvSpPr>
            <p:cNvPr id="119" name="Text Box 6"/>
            <p:cNvSpPr/>
            <p:nvPr/>
          </p:nvSpPr>
          <p:spPr>
            <a:xfrm>
              <a:off x="838080" y="2165400"/>
              <a:ext cx="401400" cy="39816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  <a:effectLst>
              <a:outerShdw dist="17819" dir="13500000" blurRad="0" rotWithShape="0">
                <a:srgbClr val="008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1295280" y="2165400"/>
              <a:ext cx="401400" cy="39816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  <a:effectLst>
              <a:outerShdw dist="17819" dir="13500000" blurRad="0" rotWithShape="0">
                <a:srgbClr val="008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838080" y="2625480"/>
              <a:ext cx="401400" cy="39852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  <a:effectLst>
              <a:outerShdw dist="17819" dir="13500000" blurRad="0" rotWithShape="0">
                <a:srgbClr val="008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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1295280" y="2624040"/>
              <a:ext cx="401400" cy="39852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  <a:effectLst>
              <a:outerShdw dist="17819" dir="13500000" blurRad="0" rotWithShape="0">
                <a:srgbClr val="008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1"/>
          <p:cNvSpPr/>
          <p:nvPr/>
        </p:nvSpPr>
        <p:spPr>
          <a:xfrm>
            <a:off x="1828800" y="1784520"/>
            <a:ext cx="7467480" cy="17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1779480"/>
                <a:tab algn="dec" pos="3198960"/>
                <a:tab algn="l" pos="4799160"/>
                <a:tab algn="dec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um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bit Column Tota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dit Column Tot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79480"/>
                <a:tab algn="dec" pos="3198960"/>
                <a:tab algn="l" pos="4799160"/>
                <a:tab algn="dec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        $  8,979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2,840.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79480"/>
                <a:tab algn="dec" pos="3198960"/>
                <a:tab algn="l" pos="4799160"/>
                <a:tab algn="dec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4,411.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79480"/>
                <a:tab algn="dec" pos="3198960"/>
                <a:tab algn="l" pos="4799160"/>
                <a:tab algn="dec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,291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6,019.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2"/>
          <p:cNvSpPr/>
          <p:nvPr/>
        </p:nvSpPr>
        <p:spPr>
          <a:xfrm>
            <a:off x="1066680" y="3581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3"/>
          <p:cNvGrpSpPr/>
          <p:nvPr/>
        </p:nvGrpSpPr>
        <p:grpSpPr>
          <a:xfrm>
            <a:off x="1752480" y="1752480"/>
            <a:ext cx="7467480" cy="2360160"/>
            <a:chOff x="1752480" y="1752480"/>
            <a:chExt cx="7467480" cy="2360160"/>
          </a:xfrm>
        </p:grpSpPr>
        <p:sp>
          <p:nvSpPr>
            <p:cNvPr id="126" name="Text Box 14"/>
            <p:cNvSpPr/>
            <p:nvPr/>
          </p:nvSpPr>
          <p:spPr>
            <a:xfrm>
              <a:off x="1752480" y="3652920"/>
              <a:ext cx="74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779480"/>
                  <a:tab algn="dec" pos="3198960"/>
                  <a:tab algn="l" pos="4799160"/>
                  <a:tab algn="dec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tal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3,270.0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$23,270.0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3546360" y="36133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6746760" y="36133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>
              <a:off x="6095880" y="17524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NG A JOURNAL AT THE END OF A MON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4, page 8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457200" y="43750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each amount colum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1"/>
          <p:cNvGrpSpPr/>
          <p:nvPr/>
        </p:nvGrpSpPr>
        <p:grpSpPr>
          <a:xfrm>
            <a:off x="3581280" y="3657600"/>
            <a:ext cx="4572000" cy="533160"/>
            <a:chOff x="3581280" y="3657600"/>
            <a:chExt cx="4572000" cy="533160"/>
          </a:xfrm>
        </p:grpSpPr>
        <p:grpSp>
          <p:nvGrpSpPr>
            <p:cNvPr id="134" name="Group 22"/>
            <p:cNvGrpSpPr/>
            <p:nvPr/>
          </p:nvGrpSpPr>
          <p:grpSpPr>
            <a:xfrm>
              <a:off x="3581280" y="4114800"/>
              <a:ext cx="1371600" cy="58680"/>
              <a:chOff x="3581280" y="4114800"/>
              <a:chExt cx="1371600" cy="58680"/>
            </a:xfrm>
          </p:grpSpPr>
          <p:sp>
            <p:nvSpPr>
              <p:cNvPr id="135" name="Line 23"/>
              <p:cNvSpPr/>
              <p:nvPr/>
            </p:nvSpPr>
            <p:spPr>
              <a:xfrm>
                <a:off x="3581280" y="4114800"/>
                <a:ext cx="13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24"/>
              <p:cNvSpPr/>
              <p:nvPr/>
            </p:nvSpPr>
            <p:spPr>
              <a:xfrm>
                <a:off x="3581280" y="4173480"/>
                <a:ext cx="13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5"/>
            <p:cNvGrpSpPr/>
            <p:nvPr/>
          </p:nvGrpSpPr>
          <p:grpSpPr>
            <a:xfrm>
              <a:off x="6781680" y="4114800"/>
              <a:ext cx="1371600" cy="58680"/>
              <a:chOff x="6781680" y="4114800"/>
              <a:chExt cx="1371600" cy="58680"/>
            </a:xfrm>
          </p:grpSpPr>
          <p:sp>
            <p:nvSpPr>
              <p:cNvPr id="138" name="Line 26"/>
              <p:cNvSpPr/>
              <p:nvPr/>
            </p:nvSpPr>
            <p:spPr>
              <a:xfrm>
                <a:off x="6781680" y="4114800"/>
                <a:ext cx="13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7"/>
              <p:cNvSpPr/>
              <p:nvPr/>
            </p:nvSpPr>
            <p:spPr>
              <a:xfrm>
                <a:off x="6781680" y="4173480"/>
                <a:ext cx="13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Oval 28"/>
            <p:cNvSpPr/>
            <p:nvPr/>
          </p:nvSpPr>
          <p:spPr>
            <a:xfrm>
              <a:off x="5597280" y="365760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29"/>
          <p:cNvSpPr/>
          <p:nvPr/>
        </p:nvSpPr>
        <p:spPr>
          <a:xfrm>
            <a:off x="457200" y="474192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debit column totals, and then add the credit column tota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457200" y="541008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fy that the total debits and total credits are equ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LING A JOURNAL AT THE END OF A MON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D:\C21 PowerPoint\Multi_Journal\art for blue\Ch04\Ch04-04c.jpg"/>
          <p:cNvPicPr/>
          <p:nvPr/>
        </p:nvPicPr>
        <p:blipFill>
          <a:blip r:embed="rId1"/>
          <a:srcRect l="0" t="0" r="0" b="31029"/>
          <a:stretch/>
        </p:blipFill>
        <p:spPr>
          <a:xfrm>
            <a:off x="419040" y="1295280"/>
            <a:ext cx="8229600" cy="2819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4, page 8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"/>
          <p:cNvSpPr/>
          <p:nvPr/>
        </p:nvSpPr>
        <p:spPr>
          <a:xfrm>
            <a:off x="8458200" y="35226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3657600" y="3294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1600200" y="374184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8"/>
          <p:cNvSpPr/>
          <p:nvPr/>
        </p:nvSpPr>
        <p:spPr>
          <a:xfrm>
            <a:off x="685800" y="3743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4987440" y="3751200"/>
            <a:ext cx="2824560" cy="1524240"/>
            <a:chOff x="4987440" y="3751200"/>
            <a:chExt cx="2824560" cy="1524240"/>
          </a:xfrm>
        </p:grpSpPr>
        <p:sp>
          <p:nvSpPr>
            <p:cNvPr id="151" name="Line 10"/>
            <p:cNvSpPr/>
            <p:nvPr/>
          </p:nvSpPr>
          <p:spPr>
            <a:xfrm flipV="1">
              <a:off x="6400800" y="3751200"/>
              <a:ext cx="0" cy="1371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 flipH="1" flipV="1">
              <a:off x="5799240" y="3777840"/>
              <a:ext cx="570960" cy="141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 flipV="1">
              <a:off x="6429600" y="3777840"/>
              <a:ext cx="570960" cy="141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 flipH="1" flipV="1">
              <a:off x="4987440" y="3862080"/>
              <a:ext cx="1293120" cy="1293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 flipV="1">
              <a:off x="6461280" y="3862080"/>
              <a:ext cx="1350720" cy="134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6137280" y="474192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16"/>
          <p:cNvSpPr/>
          <p:nvPr/>
        </p:nvSpPr>
        <p:spPr>
          <a:xfrm>
            <a:off x="169200" y="4343400"/>
            <a:ext cx="31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Rule a single li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167040" y="5435640"/>
            <a:ext cx="39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each column tot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170280" y="5803920"/>
            <a:ext cx="32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double lin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72440" y="5079960"/>
            <a:ext cx="25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otal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88640" y="4711680"/>
            <a:ext cx="55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 (last day of the 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ACCOUNTING PRACT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D:\C21 PowerPoint\Multi_Journal\art for blue\Ch04\Ch04-04d.jpg"/>
          <p:cNvPicPr/>
          <p:nvPr/>
        </p:nvPicPr>
        <p:blipFill>
          <a:blip r:embed="rId1"/>
          <a:stretch/>
        </p:blipFill>
        <p:spPr>
          <a:xfrm>
            <a:off x="152280" y="1219320"/>
            <a:ext cx="8915400" cy="36986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4, page 8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4343400" y="2362320"/>
            <a:ext cx="304920" cy="3045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6"/>
          <p:cNvSpPr/>
          <p:nvPr/>
        </p:nvSpPr>
        <p:spPr>
          <a:xfrm>
            <a:off x="7924680" y="2286000"/>
            <a:ext cx="304920" cy="304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457200" y="2895480"/>
            <a:ext cx="304920" cy="304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2133720" y="2362320"/>
            <a:ext cx="304560" cy="3045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9"/>
          <p:cNvSpPr/>
          <p:nvPr/>
        </p:nvSpPr>
        <p:spPr>
          <a:xfrm>
            <a:off x="457200" y="2438280"/>
            <a:ext cx="304920" cy="304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5105520" y="3048120"/>
            <a:ext cx="304560" cy="3045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3962520" y="3581280"/>
            <a:ext cx="304560" cy="304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4952880" y="3809880"/>
            <a:ext cx="304920" cy="304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7772400" y="3124080"/>
            <a:ext cx="304920" cy="304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21:41:09Z</dcterms:created>
  <dc:creator>Mary Colleen McLaughlin</dc:creator>
  <dc:description/>
  <dc:language>en-US</dc:language>
  <cp:lastModifiedBy>David Combs</cp:lastModifiedBy>
  <dcterms:modified xsi:type="dcterms:W3CDTF">2012-09-26T15:40:14Z</dcterms:modified>
  <cp:revision>21</cp:revision>
  <dc:subject/>
  <dc:title>THE ACCOUNTING EQUATION</dc:title>
</cp:coreProperties>
</file>